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2D4-3F08-43DB-8EF8-7017B487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698-19F7-4F2B-B818-E4ACC6E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76A-63B9-4984-B54F-BD713251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5BD-2605-4C24-8DE4-6680C08B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C3F-A676-46F8-BBE4-A658198F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237-0CAC-433C-90F7-FBAE5BE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ADD-7FBF-4B21-9EBF-47343D7F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012-19CE-4472-8EFA-E0E97970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0E84-C6B8-4A20-83D4-E81FD023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17EB-E1BA-48E0-98BB-7AE01E0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81C9-6C61-4948-AA65-5B9365B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06F-02BF-414F-B6B3-B0CB8FA5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8AA0-807A-469C-8ABD-3A74880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7DC-53A2-45FC-A0A1-9EBB869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C54D-C5DA-4DC2-A202-6EC48AF7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9103-2E8E-4D4B-931F-0311765D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0CC-6ED2-48E7-9710-C0A8D378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4F2-076E-4CD9-B879-451DCDEF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759-4909-4D48-958C-BFE94B5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094-B9C1-4137-BC3E-DCC0F7A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0A8-9091-4FC8-9736-67E56A56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8DD-F7CF-4B6C-BA9B-641A07B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996-2895-4792-BD58-1B788E3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8D7-392D-4B82-9EBF-107D9007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31bc1a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1916-59D8-4C2F-BF36-57E144B8572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73DC-9A08-4E56-B8E6-69F9E48673A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31bc1a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ll personal essays have a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ual purpose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, for the writer to clarify, preserve and/or come to terms with his/her reactions to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life experienc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, for the audience, that by sharing in the writer's experience (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empathy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) they may enlarge their own experience and realize their common humanity. “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There is only one world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NIVERSALITY of humanity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1212600">
            <a:off x="7162560" y="380520"/>
            <a:ext cx="17794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533520"/>
            <a:ext cx="7157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GOOD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good description must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leave sensory impressions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using concrete sensory detail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20840" indent="-420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t must create a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ominant impression or mood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through the selection of detail and the connotations of the word choice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20840" indent="-420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ood descriptive writing expresses a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reative vision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by making the reader "see as never before"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455400">
            <a:off x="6916320" y="326520"/>
            <a:ext cx="22096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3 methods of organization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Spatial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hronological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ause-Effect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31654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Most commo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416160" indent="-41616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an be from…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ight to lef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p to dow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ose up to far awa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ost prominent to least promin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16160" indent="-41616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an be a 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ving</a:t>
            </a: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 point of view or 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fixed</a:t>
            </a: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3" name="" descr="Artist's concept of the Milky Way galaxy, with the 'galactic bar' visible in the center."/>
          <p:cNvPicPr/>
          <p:nvPr/>
        </p:nvPicPr>
        <p:blipFill>
          <a:blip r:embed="rId1"/>
          <a:stretch/>
        </p:blipFill>
        <p:spPr>
          <a:xfrm rot="2510400">
            <a:off x="5333760" y="83772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ronolog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equires a description of something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Arial"/>
              </a:rPr>
              <a:t>changes over a span of time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an also use spatial techniques (moving across a place over time)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2033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use-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equires a description of a series of actions 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in order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This often becomes a Narration rather tha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a Description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00800" y="4267080"/>
            <a:ext cx="24670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OL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9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Often there will be a </a:t>
            </a:r>
            <a:r>
              <a:rPr b="1" lang="en-US" sz="3800" spc="-1" strike="noStrike">
                <a:solidFill>
                  <a:srgbClr val="f8f8f8"/>
                </a:solidFill>
                <a:latin typeface="Arial"/>
              </a:rPr>
              <a:t>shift point (volta)</a:t>
            </a: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 somewhere in the piece where the writer's attitude or tone or stance or the mood changes significantly</a:t>
            </a:r>
            <a:endParaRPr b="0" lang="en-US" sz="3800" spc="-1" strike="noStrike">
              <a:solidFill>
                <a:srgbClr val="f8f8f8"/>
              </a:solidFill>
              <a:latin typeface="Arial"/>
            </a:endParaRPr>
          </a:p>
          <a:p>
            <a:pPr marL="429840" indent="-429840">
              <a:spcBef>
                <a:spcPts val="9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Usually there will be clear signals for this shift.</a:t>
            </a:r>
            <a:endParaRPr b="0" lang="en-US" sz="3800" spc="-1" strike="noStrike">
              <a:solidFill>
                <a:srgbClr val="f8f8f8"/>
              </a:solidFill>
              <a:latin typeface="Arial"/>
            </a:endParaRPr>
          </a:p>
          <a:p>
            <a:pPr marL="42984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568200">
            <a:off x="5943240" y="0"/>
            <a:ext cx="2184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gn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unctuation (.  ,  ;  !   ?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aragraphing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turn word or phrase--"suddenly"; "meanwhile" or something more subt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A change in the pattern of connotation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shift in the point of view--one common shift is a change in the time frame, from "as I saw it then" to "looking back on it now".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21:58:45Z</dcterms:created>
  <dc:creator>\]</dc:creator>
  <dc:description/>
  <dc:language>en-US</dc:language>
  <cp:lastModifiedBy>\]</cp:lastModifiedBy>
  <dcterms:modified xsi:type="dcterms:W3CDTF">2008-09-12T21:20:52Z</dcterms:modified>
  <cp:revision>5</cp:revision>
  <dc:subject/>
  <dc:title>DESCRIPTION CHAPTER LECTURE </dc:title>
</cp:coreProperties>
</file>